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B5A-50E4-4363-9250-0FD1EEDD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53C-3BF1-493A-A684-532E4374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F7B-5858-4B6A-AEDE-F1CE4800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5E1-ADBA-4B73-B58D-0C82D654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40A-E227-4994-BE06-EB2E6440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848-F023-4436-9937-700A9659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DBD2-8A8B-497F-A730-1FA59EE7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849-84DB-42D2-AE0E-261D7F30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4EC-5E2F-4818-8F8C-CF0887BC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26B-AE73-42CB-B151-2E5A1811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AEA-C369-45EB-95D1-30AB13ED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F27-D62C-4DE3-A26E-80C324AB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9A67-7CA4-47EF-8E54-FA938F8D4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3 Hrad prepevný je Bo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viac možno ma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môžu nám vzia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kto, čo chc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ič to nezname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oh rad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ú chyst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rad prepevný je Bo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áš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záštita vždy ist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ním smieme čeliť nástrah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diabol verným chys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 náš nepriat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y nás zničiť chc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úskok, zvod, kl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mieril proti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iet mu v svete rovného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oc naša vždy len slabá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e ľahko premožení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om nájdeme zdroj náde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prehru v triumf zmení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to môže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vie zachráni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Syn Boží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diný Boh a 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koniec zv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zí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hoc aj svet zla plný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hrozí nám zánik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mocne za nás boj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iet spásy v in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nik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oc plán zákerný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priateľ zlý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vždy ho odrazí a slovom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p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oraz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oh, nás Pán všemohúc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la odpor už nič nezmôž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d moco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ho 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zvody sveta premôž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p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vda Ježišo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15:08Z</dcterms:modified>
  <cp:revision>22</cp:revision>
  <dc:subject/>
  <dc:title>Je veľký náš Pán, on slávy je Kráľ Nech do všetkých strán  spev vrúcnych znie chvál.</dc:title>
</cp:coreProperties>
</file>